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A578C-6E17-445D-A544-D349CDFBF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F834-8550-43F7-8D1A-8B2DEAF1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14614-DFE8-4278-A952-D72D598B2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C774-6EF6-4FFD-A191-5977BD82F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5685-0735-4157-B163-3AD42EB06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1EC1-76BC-4A08-AEA8-5CAFE125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5F07-440E-4E4A-B49C-14D0D895A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DE315-A3AB-4044-8E60-CE7B8F2A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2B0AB-765C-4768-B608-006A1D702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8DF0-411F-4DB2-85B5-A0DC7CEC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3610-4FCF-4713-9CA0-2C28D929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5ABE0-BE84-4C4D-9C45-64EAA139E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CBF7A-53CB-4371-8AD8-DB012E8D11B7}" type="slidenum">
              <a:rPr b="0" lang="de-DE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1500120"/>
            <a:ext cx="7772400" cy="285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Chaos macht Schule</a:t>
            </a:r>
            <a:br>
              <a:rPr sz="4400"/>
            </a:br>
            <a:br>
              <a:rPr sz="800"/>
            </a:br>
            <a:r>
              <a:rPr b="1" lang="de-DE" sz="4400" spc="-1" strike="noStrike">
                <a:solidFill>
                  <a:srgbClr val="ffc000"/>
                </a:solidFill>
                <a:latin typeface="Calibri"/>
              </a:rPr>
              <a:t>Internet und Privatsphär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57200" y="4285800"/>
            <a:ext cx="64008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ainer  -  Lutz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Realität </a:t>
            </a:r>
            <a:r>
              <a:rPr b="0" lang="de-DE" sz="4000" spc="-1" strike="noStrike">
                <a:solidFill>
                  <a:srgbClr val="ffc000"/>
                </a:solidFill>
                <a:latin typeface="Wingdings"/>
                <a:ea typeface="Wingdings"/>
              </a:rPr>
              <a:t></a:t>
            </a: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 Virtualitä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ealitätsflucht als Gefahr, Symptome: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bwechslung der PC-Tätigkeiten nimmt a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utzungsdauer erhöht sich drastis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ffline“-Pflichten werden vernachlässig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ntgegenwir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emeinsame Aktivitäten gemeinsam pla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„</a:t>
            </a: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ffline“-Erlebnisse, z.B. Wochenendurlaub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ventuell professionellen Rat such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42876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Frag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Anregungen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Chaos Computer Club Hamburg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Rainer  -  rainer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ffffff"/>
                </a:solidFill>
                <a:latin typeface="Calibri"/>
              </a:rPr>
              <a:t>Lutz  -  lutz@hamburg.ccc.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Danke für Ihre Aufmerksamkei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428760" y="1857240"/>
            <a:ext cx="822960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4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Untertitel 2"/>
          <p:cNvSpPr/>
          <p:nvPr/>
        </p:nvSpPr>
        <p:spPr>
          <a:xfrm>
            <a:off x="1357200" y="3071880"/>
            <a:ext cx="6400800" cy="30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Vertragsabschlüsse per Interne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llenserklärung zwischen Vertragspartne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beschränkt geschäftsfähig ab 7 Jahren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(§108 BGB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Taschengeldparagraph (§ 110 BGB)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ilt erst nach Geschäftsabschluss (Zahlung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Fernabsatzgesetz (§ 355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derruf ohne Angabe von Gründen bis zu zwei Wochen nach Vertragsabschlus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7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as tun bei überraschenden Rechnungen, Abonnements etc.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ebseite des Unternehmens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lares Geschäftsmodell und Impressum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rreführende Angaben ausdruc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ültigem Vertragsabschluss widersprech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achweis über erbrachte Leistung und den Vorgang des Vertragsabschlusses einforder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ggf. Anwalt für Verbraucherrecht einschal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Wer sind wir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er Chaos Computer Club ist seit 25 Jahren eine Vereinigung von Hackern, Computerspezialisten und Datenschützern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r beschäftigen uns meist mit interessanter Technik und experimentieren mit ihren Möglichkeiten, untersuchen aber auch ihre Gefahren und Risiken für die Gesellschaft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8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G:\internet.jpg"/>
          <p:cNvPicPr/>
          <p:nvPr/>
        </p:nvPicPr>
        <p:blipFill>
          <a:blip r:embed="rId2"/>
          <a:stretch/>
        </p:blipFill>
        <p:spPr>
          <a:xfrm>
            <a:off x="857160" y="642960"/>
            <a:ext cx="7429680" cy="50720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 txBox="1"/>
          <p:nvPr/>
        </p:nvSpPr>
        <p:spPr>
          <a:xfrm>
            <a:off x="457200" y="1600200"/>
            <a:ext cx="6972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Gerade Verbindung 8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6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Informationszeitalter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Computer als universelles Instru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issen, Bildung und aktuelle Nachrich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ommunikation mit Freu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 und Entertainmen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Internet als Medium vs. klassisches TV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ein „Sendeprogramm“ mit Terminbindung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Verschiedene Blickwinkel auf Informatio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13160" indent="-27432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Nahezu beliebige Interaktion möglich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z.B. „World of Warcraft“, „Flyff“, „Metin“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s macht den Reiz aus?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 in der Gemeinschaft („Community“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Erfolgserlebnisse nach bestandenen Abenteuern („Quests“)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Riesige Spielwelten -&gt; viel zu entdeck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Phantastische Spielfiguren („Charaktere“) mit „übermenschlichen“ Fähigkeiten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Karte von World of Warcraf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71" name="Inhaltsplatzhalter 8" descr="WorldmapOfWarcraft_RC3.jpg"/>
          <p:cNvPicPr/>
          <p:nvPr/>
        </p:nvPicPr>
        <p:blipFill>
          <a:blip r:embed="rId3"/>
          <a:stretch/>
        </p:blipFill>
        <p:spPr>
          <a:xfrm>
            <a:off x="1554120" y="1600200"/>
            <a:ext cx="60357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Item- und Fähigkeiten-Ansich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4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Inhaltsplatzhalter 7" descr="Item_Socketing.jpg"/>
          <p:cNvPicPr/>
          <p:nvPr/>
        </p:nvPicPr>
        <p:blipFill>
          <a:blip r:embed="rId2"/>
          <a:stretch/>
        </p:blipFill>
        <p:spPr>
          <a:xfrm>
            <a:off x="1317600" y="1600200"/>
            <a:ext cx="6508800" cy="452592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3" descr="G:\chaosknoten.png"/>
          <p:cNvPicPr/>
          <p:nvPr/>
        </p:nvPicPr>
        <p:blipFill>
          <a:blip r:embed="rId3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Spielersicht in einer Instanz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  <p:pic>
        <p:nvPicPr>
          <p:cNvPr id="81" name="Inhaltsplatzhalter 8" descr="woww.jpg"/>
          <p:cNvPicPr/>
          <p:nvPr/>
        </p:nvPicPr>
        <p:blipFill>
          <a:blip r:embed="rId3"/>
          <a:stretch/>
        </p:blipFill>
        <p:spPr>
          <a:xfrm>
            <a:off x="1619280" y="1600200"/>
            <a:ext cx="590544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G:\speckle_muster_argon_klein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000"/>
                </a:solidFill>
                <a:latin typeface="Calibri"/>
              </a:rPr>
              <a:t>Online-Multiplayer-Spiel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Kritische Begleiterscheinung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Online-Verabredungsdruck im Team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Dauer einzelner „Quests“ bis zu 5 Stund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Wachstumsdruck , um den Anschluss </a:t>
            </a:r>
            <a:br>
              <a:rPr sz="3200"/>
            </a:b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an die Gruppe halten zu könn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Spielkomplexität begünstigt Suchtverhalten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ffff"/>
                </a:solidFill>
                <a:latin typeface="Calibri"/>
              </a:rPr>
              <a:t>Laufende Kosten: Monats-Abo (WoW) oder optionale „Charakterupgrades“ (Flyff)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5" name="Gerade Verbindung 5"/>
          <p:cNvSpPr/>
          <p:nvPr/>
        </p:nvSpPr>
        <p:spPr>
          <a:xfrm>
            <a:off x="357120" y="6429240"/>
            <a:ext cx="7858080" cy="1800"/>
          </a:xfrm>
          <a:prstGeom prst="line">
            <a:avLst/>
          </a:prstGeom>
          <a:ln cap="rnd" w="7632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3" descr="G:\chaosknoten.png"/>
          <p:cNvPicPr/>
          <p:nvPr/>
        </p:nvPicPr>
        <p:blipFill>
          <a:blip r:embed="rId2"/>
          <a:stretch/>
        </p:blipFill>
        <p:spPr>
          <a:xfrm>
            <a:off x="7572240" y="5786280"/>
            <a:ext cx="1262160" cy="9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09-04-01T16:51:42Z</dcterms:modified>
  <cp:revision>138</cp:revision>
  <dc:subject/>
  <dc:title>Folie 1</dc:title>
</cp:coreProperties>
</file>